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D7E-2CCB-41E4-BF24-C2FFB5BA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F73-77BA-4B16-8E60-EAB29EC3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4F7-76FB-4BB7-BAEE-EF5697D0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BD3-2167-483E-B5D1-B0700894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6D7-F4A0-4BBF-957B-C6551EE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08B-0905-43D0-B0A0-CC960D5A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589-CFB2-4500-A1BA-B3130F31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16F-6689-4293-AB21-703E39D9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5BF-EBBB-47D8-BCF6-FF6129F8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09B-6AF6-443A-BC62-6F3209C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3B7-41D3-4744-A59A-19CA0B60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61C-BBBF-409D-BE55-9A1936B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1B40-9DA1-4966-86DF-F3BC6526E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Gf3iw7pKM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Jokerman"/>
              </a:rPr>
              <a:t>BELL RINGER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Jokerman"/>
              <a:ea typeface="Joker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514600" cy="296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1295280"/>
            <a:ext cx="79246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integer for $8 withdrawn from a bank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integers {-2, 4, -1, 2, -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-|17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|-8|+|12|+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-9 __ 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: -2, -4, 0, 5,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304920"/>
            <a:ext cx="2667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ambria Math"/>
              </a:rPr>
              <a:t>Lesson 1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ambria Math"/>
              <a:ea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INTEGER RU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752480"/>
            <a:ext cx="8686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ubra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DD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dd the number and keep the same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G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tract the numbers and keep the sign of the larger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HECK FOR UNDERSTAND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752480"/>
            <a:ext cx="8686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.67  #3 –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.72  #3 –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INTEGER W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752480"/>
            <a:ext cx="853416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Negati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BLACK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 (1) Jack (11) Queen (12) King (13) Jokers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layer flips two c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ntegers (5 min) / Subtract integers (5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answ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yer with larger answer gets the c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yer with the most cards at the end, W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REATE CARD WORKSHEE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2480"/>
            <a:ext cx="85341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cards to create a 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D (-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LACK (+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(1) Jack (11) Queen (12) King (13) Jokers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____ +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____ - 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ore for Extra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JOUR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43828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me what you learned toda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 you don’t know the Integer Ru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HOMEWORK CHEC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9246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memade Integers Worksheet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points for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LES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36232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nd SUBTRACTING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subtraction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You T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EGf3iw7pK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792468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rrows go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arrows go to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0 (Z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first arrow to represent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second arrow from that point to represen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53352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UMBER LI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75248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+ 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–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1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+ 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– (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53352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UMBER LI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943600"/>
            <a:ext cx="6486480" cy="34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43400" y="5791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791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52388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EEN 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is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ALGEBRA TI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97180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1 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CELS 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+ -1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495680"/>
            <a:ext cx="38088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44956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1676520"/>
            <a:ext cx="38124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ALGEBRA TI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75248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+ 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–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1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+ 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– (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52578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52578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79132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5791320"/>
            <a:ext cx="38124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962520"/>
            <a:ext cx="182880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1:25:21Z</dcterms:created>
  <dc:creator>rasmusa</dc:creator>
  <dc:description/>
  <dc:language>en-US</dc:language>
  <cp:lastModifiedBy>zz1</cp:lastModifiedBy>
  <dcterms:modified xsi:type="dcterms:W3CDTF">2010-09-14T12:29:35Z</dcterms:modified>
  <cp:revision>3</cp:revision>
  <dc:subject/>
  <dc:title>Slide 1</dc:title>
</cp:coreProperties>
</file>